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E879-808C-4987-A030-BD9B09770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5A73-B1CC-429E-98B1-3104D8F0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AEC6-FEA5-45DD-B2CF-4AABF7566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863E-B662-4933-ABA8-A501DB1D9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F326-DF70-4C1B-A2F2-94EDD2FC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E9F3-9B84-4CD9-B3C8-7425A586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FECC-9404-4D36-ACDD-3535C0E7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16B6-F47A-4949-99C4-A6CB4AB0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7AB2-753A-4F19-B95A-0996A620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FA22-A1E2-4A4C-8FB1-6A83E517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4D09-5B9E-49CD-B3C5-3E6B46FA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770E-37A5-4E87-9935-8DBF7B09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D2F2-1271-4088-9AB3-6C0A56555A6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SELHO NACIONAL DE RECURSOS HIDRICOS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âmara Técnica de Educação, Capacitação, Mobilizaçação Social e INformação em Recursos Hidricos - CTEM</a:t>
            </a:r>
            <a:br>
              <a:rPr sz="2000"/>
            </a:b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Grupo de Trabalho de Capacitação e Educa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42920" y="46530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esultados do questionário aplicado na Oficina realizada no Encontro Nacional de Comitês de Bacia/2006 em Vila Velha/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5364000" y="0"/>
            <a:ext cx="3780000" cy="6858000"/>
            <a:chOff x="5364000" y="0"/>
            <a:chExt cx="3780000" cy="6858000"/>
          </a:xfrm>
        </p:grpSpPr>
        <p:graphicFrame>
          <p:nvGraphicFramePr>
            <p:cNvPr id="44" name=""/>
            <p:cNvGraphicFramePr/>
            <p:nvPr/>
          </p:nvGraphicFramePr>
          <p:xfrm>
            <a:off x="5364000" y="4581360"/>
            <a:ext cx="3780000" cy="22766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64000" y="4581360"/>
                      <a:ext cx="3780000" cy="227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" name=""/>
            <p:cNvGraphicFramePr/>
            <p:nvPr/>
          </p:nvGraphicFramePr>
          <p:xfrm>
            <a:off x="5508720" y="3154320"/>
            <a:ext cx="3635280" cy="22194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08720" y="3154320"/>
                      <a:ext cx="3635280" cy="221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" name=""/>
            <p:cNvGraphicFramePr/>
            <p:nvPr/>
          </p:nvGraphicFramePr>
          <p:xfrm>
            <a:off x="5724360" y="0"/>
            <a:ext cx="3313440" cy="206856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4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24360" y="0"/>
                      <a:ext cx="3313440" cy="206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" name=""/>
            <p:cNvGraphicFramePr/>
            <p:nvPr/>
          </p:nvGraphicFramePr>
          <p:xfrm>
            <a:off x="5580000" y="1484280"/>
            <a:ext cx="3564000" cy="2392560"/>
          </p:xfrm>
          <a:graphic>
            <a:graphicData uri="http://schemas.openxmlformats.org/presentationml/2006/ole">
              <p:oleObj progId="Excel.Sheet.12" r:id="rId7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580000" y="1484280"/>
                      <a:ext cx="3564000" cy="239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" name=""/>
            <p:cNvSpPr/>
            <p:nvPr/>
          </p:nvSpPr>
          <p:spPr>
            <a:xfrm>
              <a:off x="6804000" y="333360"/>
              <a:ext cx="113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Centro Oes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020360" y="1773360"/>
              <a:ext cx="81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Sudest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166160" y="3645000"/>
              <a:ext cx="41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Su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948720" y="5013360"/>
              <a:ext cx="84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Nordes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453708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rticipantes por Região e Seg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15640" y="5589720"/>
            <a:ext cx="3529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88 questionarios respond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72 respostas vali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1413000"/>
          <a:ext cx="5905440" cy="4163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1413000"/>
                    <a:ext cx="5905440" cy="41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496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esultados da pergunta: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rticipou dos debates doPlano Nacional de Recursos Hidricos (   )? da Conferência Nacional de Meio Ambiente (   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900000" y="1665360"/>
          <a:ext cx="7272360" cy="414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665360"/>
                    <a:ext cx="7272360" cy="41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687240" y="6116760"/>
            <a:ext cx="409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bs: houve ocorrência de respostas dupl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4247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esultados da pergunta: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abalha com capacitação em Recursos Hidricos (   )? Em seu comitê (   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00000" y="5876640"/>
            <a:ext cx="6120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bs: Houve ocorrência de respostas dupl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55640" y="1484280"/>
          <a:ext cx="7129440" cy="422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484280"/>
                    <a:ext cx="7129440" cy="42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7772400" cy="5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esultados da pergunta: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á quanto tempo participa do Comitê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24000" y="1484280"/>
          <a:ext cx="7704000" cy="468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84280"/>
                    <a:ext cx="7704000" cy="46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99cc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Quais os principais instrumentos e ações de capacitação e educação desenvolvidos no seu comitê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5940000" y="1700280"/>
            <a:ext cx="280836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enos de 10% indicaram programas especificos realizados pelo Comit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79280" y="836640"/>
          <a:ext cx="5761080" cy="574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836640"/>
                    <a:ext cx="5761080" cy="57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4931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mo seu Comitê tem equacionado o financiamento para as ações de capacitação e educação em recursos hidric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11280" y="692280"/>
          <a:ext cx="5616360" cy="5905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692280"/>
                    <a:ext cx="561636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Quais os principais públicos envolvidos nas ações de capacitação e educação em seu Comitê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50920" y="765000"/>
          <a:ext cx="7561080" cy="6093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765000"/>
                    <a:ext cx="7561080" cy="60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9T16:23:12Z</dcterms:created>
  <dc:creator> bagapito</dc:creator>
  <dc:description/>
  <dc:language>en-US</dc:language>
  <cp:lastModifiedBy>Residencial</cp:lastModifiedBy>
  <dcterms:modified xsi:type="dcterms:W3CDTF">2006-09-14T02:10:39Z</dcterms:modified>
  <cp:revision>7</cp:revision>
  <dc:subject/>
  <dc:title>Slide 1</dc:title>
</cp:coreProperties>
</file>